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8C06-1CC2-4F51-87D5-887988A0C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6FD6-9083-4BB2-B11D-C149728A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A39E-81F7-4F3B-B409-A6DB7A75B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07EB-5151-47F2-B859-08C267E63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8DA1-FFF8-477C-82A8-E0BD278A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D38D-7ACB-4360-89F8-D6E98D0E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565B-6CAF-4C39-A4FD-5D9BA2CE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2EC0-B086-4C2E-97D1-78AC98A5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182E-194D-4D91-AA23-3467F2F9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BCFC-2B64-45C1-AD04-CCCED22F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0A71-C8B7-4102-A670-3D4C2435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7E56-5F1B-4CAF-A2EE-B6238EDE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F8F2-DD0C-4908-9086-FE2603C95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284720" y="0"/>
            <a:ext cx="4859280" cy="66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Помни! Подниматься на крышу вагона смертельно опасно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Напряжение в контактной сети переменного тока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27500 В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(безопасным для жизни считается напряжение 50 В переменного тока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При напряжении 27500 В электрическая дуга может возникнуть при приближении к проводу на расстоянии менее 80 см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Приближаться к оборванным лежащим на земле проводам на расстоянии менее 8 метров нельзя!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Электрический ток от оборванного провода растекается по земле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При обнаружении таких проводов необходимо сообщить работникам железнодорожного транспор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9T10:49:48Z</dcterms:created>
  <dc:creator>etb</dc:creator>
  <dc:description/>
  <dc:language>en-US</dc:language>
  <cp:lastModifiedBy>etb</cp:lastModifiedBy>
  <dcterms:modified xsi:type="dcterms:W3CDTF">2011-07-19T11:30:42Z</dcterms:modified>
  <cp:revision>7</cp:revision>
  <dc:subject/>
  <dc:title>Слайд 1</dc:title>
</cp:coreProperties>
</file>